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836-091E-4BD1-B0D5-0FE35320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AD9-83CF-4601-B5B7-45EC791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74D-9D9A-4E58-B431-BBA3623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B09-21E0-4B29-8303-41253574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651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450-B744-4CE5-AB4E-8CA5FEA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4E2-6D9D-4B5D-92C4-0345BFE8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5A4-399C-4C5F-9E01-ABF46E6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94A-64F2-41D5-A9FC-610C2701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651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D0-57EB-4ADD-A64F-E0A6B37B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46B-8F18-4EE8-BBE7-10E1F77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0A5-E3F0-4E20-A581-FE53753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49F-6958-4836-A937-F0DBE325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backfade_template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5" descr="full_template_dark"/>
          <p:cNvPicPr/>
          <p:nvPr/>
        </p:nvPicPr>
        <p:blipFill>
          <a:blip r:embed="rId3"/>
          <a:srcRect l="0" t="0" r="0" b="81853"/>
          <a:stretch/>
        </p:blipFill>
        <p:spPr>
          <a:xfrm>
            <a:off x="0" y="0"/>
            <a:ext cx="9906120" cy="127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014A-33EF-458E-8518-759B82047C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4" descr="full_template_dark"/>
          <p:cNvPicPr/>
          <p:nvPr/>
        </p:nvPicPr>
        <p:blipFill>
          <a:blip r:embed="rId2"/>
          <a:srcRect l="0" t="0" r="0" b="1995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948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739800" y="46447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1655280"/>
            <a:ext cx="8420040" cy="10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xed Flashing Lights Viewing Tr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84080" y="2798640"/>
            <a:ext cx="6934320" cy="8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lcolm Nicholson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al Development Engineer at GLA R&amp;RNAV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43040" y="3648240"/>
            <a:ext cx="69339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ALA ENG1 </a:t>
            </a:r>
            <a:endParaRPr b="0" lang="en-US" sz="12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The use of a fixed light as part of a flashing light character can enhance its conspicuity at short range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The contrast between the fixed component and the flashing component has to be sufficient enough to distinguish between them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94891"/>
                </a:solidFill>
                <a:latin typeface="Arial"/>
              </a:rPr>
              <a:t>It is recommended that Authorities wishing to utilise the Fixed and Flashing (FFl) character, the fixed component should be 1% of the peak intensity of the flashing character.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4120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Trials - Genera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4891"/>
                </a:solidFill>
                <a:latin typeface="Arial"/>
              </a:rPr>
              <a:t>What’s the point?</a:t>
            </a: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Confirmation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necdotal evidence (e.g. Yes, it was white and we could see it from 5M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Validation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Written Report (e.g. Time/Date, Visibility, Observers name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A new light in service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e9e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4891"/>
                </a:solidFill>
                <a:latin typeface="Arial"/>
              </a:rPr>
              <a:t>Designed trial (e.g. Objectives, preparation, measurements, comparison to previous light, number of observers (tested), visibility, sea state,  angle of viewing, recorded results, results analysis, final written report)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Trial - Observers Sh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3200" y="1494000"/>
            <a:ext cx="4322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Categorical Choice YES/NO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Ordinal Choice or Comparison Scale 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Ordinal response options must b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Meaningful: makes sense given the question and purpos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Balanced: two endpoints mean the opposite of each other and the intervals between are about equal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Easy to understand and complete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94891"/>
                </a:solidFill>
                <a:latin typeface="Arial"/>
              </a:rPr>
              <a:t>Easy to distinguish from the question and response direction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43560" y="1498680"/>
          <a:ext cx="5184720" cy="2095560"/>
        </p:xfrm>
        <a:graphic>
          <a:graphicData uri="http://schemas.openxmlformats.org/drawingml/2006/table">
            <a:tbl>
              <a:tblPr/>
              <a:tblGrid>
                <a:gridCol w="793440"/>
                <a:gridCol w="627120"/>
                <a:gridCol w="766800"/>
                <a:gridCol w="399960"/>
                <a:gridCol w="750960"/>
                <a:gridCol w="352440"/>
                <a:gridCol w="682560"/>
                <a:gridCol w="811440"/>
              </a:tblGrid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Observe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Frodo Baggins</a:t>
                      </a:r>
                      <a:endParaRPr b="0" lang="en-US" sz="16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Ligh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Excellen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Good 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Un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lou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Brightnes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Flash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spcuity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fidenc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514760" y="3735360"/>
          <a:ext cx="5184720" cy="2073240"/>
        </p:xfrm>
        <a:graphic>
          <a:graphicData uri="http://schemas.openxmlformats.org/drawingml/2006/table">
            <a:tbl>
              <a:tblPr/>
              <a:tblGrid>
                <a:gridCol w="793800"/>
                <a:gridCol w="627120"/>
                <a:gridCol w="766800"/>
                <a:gridCol w="399960"/>
                <a:gridCol w="750960"/>
                <a:gridCol w="352440"/>
                <a:gridCol w="682560"/>
                <a:gridCol w="811080"/>
              </a:tblGrid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Observe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94891"/>
                          </a:solidFill>
                          <a:latin typeface="Rage Italic"/>
                        </a:rPr>
                        <a:t>Bilbao Baggins</a:t>
                      </a:r>
                      <a:endParaRPr b="0" lang="en-US" sz="16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Ligh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Excellent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Good 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Good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Very Poo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Unacceptabl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lour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Brightnes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09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Flash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spcuity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nfidence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94891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0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9489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485640" y="589752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94891"/>
                </a:solidFill>
                <a:latin typeface="Arial"/>
              </a:rPr>
              <a:t>YOU CAN’T COMPARE APPLES AND PEARS</a:t>
            </a: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jectives for FFL Tria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2178000"/>
            <a:ext cx="569916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Is a FFL more effective AtoN than a normal flashing light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at impact does eclipse time has on the effectiveness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at is the right level of contrast between the fixed part and the flashing part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97" name="Picture 6" descr="ship_im"/>
          <p:cNvPicPr/>
          <p:nvPr/>
        </p:nvPicPr>
        <p:blipFill>
          <a:blip r:embed="rId1"/>
          <a:stretch/>
        </p:blipFill>
        <p:spPr>
          <a:xfrm>
            <a:off x="6661080" y="2755800"/>
            <a:ext cx="1974960" cy="197496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4891"/>
                </a:solidFill>
                <a:latin typeface="Arial"/>
              </a:rPr>
              <a:t>Where does the FFL character come from?</a:t>
            </a:r>
            <a:endParaRPr b="0" lang="en-US" sz="20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Rotating Optic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Loom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Space between lens panel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Fixed Optics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e9e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4891"/>
                </a:solidFill>
                <a:latin typeface="Arial"/>
              </a:rPr>
              <a:t>Nigressing current</a:t>
            </a: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02" name="Picture 6" descr="lighthouse_img"/>
          <p:cNvPicPr/>
          <p:nvPr/>
        </p:nvPicPr>
        <p:blipFill>
          <a:blip r:embed="rId1"/>
          <a:stretch/>
        </p:blipFill>
        <p:spPr>
          <a:xfrm>
            <a:off x="6673680" y="2768760"/>
            <a:ext cx="1949760" cy="194940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600120" y="156528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6313320" y="156528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3"/>
          <a:stretch/>
        </p:blipFill>
        <p:spPr>
          <a:xfrm>
            <a:off x="600120" y="397512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4"/>
          <a:stretch/>
        </p:blipFill>
        <p:spPr>
          <a:xfrm>
            <a:off x="6313320" y="3975120"/>
            <a:ext cx="2448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5"/>
          <a:stretch/>
        </p:blipFill>
        <p:spPr>
          <a:xfrm>
            <a:off x="3454560" y="2046240"/>
            <a:ext cx="244764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6"/>
          <a:stretch/>
        </p:blipFill>
        <p:spPr>
          <a:xfrm>
            <a:off x="3816360" y="3813120"/>
            <a:ext cx="16542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bservers and Cond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3" descr=""/>
          <p:cNvPicPr/>
          <p:nvPr/>
        </p:nvPicPr>
        <p:blipFill>
          <a:blip r:embed="rId1"/>
          <a:stretch/>
        </p:blipFill>
        <p:spPr>
          <a:xfrm>
            <a:off x="438120" y="1573200"/>
            <a:ext cx="6316560" cy="4559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8271000" y="4532400"/>
            <a:ext cx="966600" cy="98244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124840" y="5533920"/>
            <a:ext cx="104760" cy="104760"/>
          </a:xfrm>
          <a:prstGeom prst="rect">
            <a:avLst/>
          </a:prstGeom>
          <a:noFill/>
          <a:ln w="9360">
            <a:solidFill>
              <a:srgbClr val="0948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4891"/>
              </a:solidFill>
              <a:latin typeface="Arial"/>
            </a:endParaRPr>
          </a:p>
        </p:txBody>
      </p:sp>
      <p:pic>
        <p:nvPicPr>
          <p:cNvPr id="114" name="Picture 8" descr="lighthouse_img2"/>
          <p:cNvPicPr/>
          <p:nvPr/>
        </p:nvPicPr>
        <p:blipFill>
          <a:blip r:embed="rId2"/>
          <a:stretch/>
        </p:blipFill>
        <p:spPr>
          <a:xfrm>
            <a:off x="6672240" y="2765520"/>
            <a:ext cx="1949400" cy="1949400"/>
          </a:xfrm>
          <a:prstGeom prst="rect">
            <a:avLst/>
          </a:prstGeom>
          <a:ln w="9360">
            <a:solidFill>
              <a:srgbClr val="0948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iewing Path – 0.75M (1.3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25383" t="31814" r="8320" b="12390"/>
          <a:stretch/>
        </p:blipFill>
        <p:spPr>
          <a:xfrm>
            <a:off x="1190520" y="2006640"/>
            <a:ext cx="74264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6514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564080" y="1060560"/>
            <a:ext cx="5424480" cy="348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0" y="1230480"/>
            <a:ext cx="521964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tretch/>
        </p:blipFill>
        <p:spPr>
          <a:xfrm>
            <a:off x="5129280" y="3789360"/>
            <a:ext cx="4776840" cy="306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4"/>
          <a:stretch/>
        </p:blipFill>
        <p:spPr>
          <a:xfrm>
            <a:off x="214200" y="3789360"/>
            <a:ext cx="5005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8:18:05Z</dcterms:created>
  <dc:creator>Booz Allen Hamilton</dc:creator>
  <dc:description/>
  <dc:language>en-US</dc:language>
  <cp:lastModifiedBy>Seamus Doyle</cp:lastModifiedBy>
  <dcterms:modified xsi:type="dcterms:W3CDTF">2014-11-14T10:38:01Z</dcterms:modified>
  <cp:revision>22</cp:revision>
  <dc:subject/>
  <dc:title>Slide 1</dc:title>
</cp:coreProperties>
</file>