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972800" cy="73152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7160" y="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678040" y="525600"/>
            <a:ext cx="394200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39480" y="3328560"/>
            <a:ext cx="6816600" cy="3156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716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BEBF008-37B7-431C-8BAA-2D33F8990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055"/>
          <p:cNvSpPr/>
          <p:nvPr/>
        </p:nvSpPr>
        <p:spPr>
          <a:xfrm>
            <a:off x="526716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F239468-39DF-4DBC-8F6E-F0C721BF56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676600" y="525600"/>
            <a:ext cx="3943440" cy="2628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238400" y="3328560"/>
            <a:ext cx="681984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0178-1849-4131-8C47-ED5806A9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2282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AC24-3655-4D26-906C-5120F0F7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810B-C1B7-4683-9522-97254430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6405-92B0-45D9-820D-7A80C0A8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EC5F-66A2-45EA-9DA3-160FA26E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53EF-AAD7-4F0E-9654-0A41A646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8B55-2B9F-40FB-9995-8F263728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C9CF-11CF-4ECE-882E-8E4008B2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293760"/>
            <a:ext cx="987408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00AC-C3A4-4546-9EC1-2A69BFBC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D120-C073-46F2-96EA-DDB6E40F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BEF9-DB9A-4F75-8892-F4DFE34D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CEF1-D4DD-44F7-B72A-03E785F2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78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050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2606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6780240"/>
            <a:ext cx="25588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6780240"/>
            <a:ext cx="34732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6780240"/>
            <a:ext cx="25588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9476-4D89-4954-9024-3A51E3153BF8}" type="slidenum">
              <a:rPr b="0" lang="en-US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733840" y="442800"/>
            <a:ext cx="720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1085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GOVERNMENT OF 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MINISTRY OF PORTS, SHIPPING &amp; WATER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DIRECTORATE GENERAL OF  LIGHTHOUSES &amp; LIGHTSHIP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1282" t="0" r="66511" b="47697"/>
          <a:stretch/>
        </p:blipFill>
        <p:spPr>
          <a:xfrm>
            <a:off x="4114800" y="2438280"/>
            <a:ext cx="1905120" cy="2433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099240" y="57150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Aids to Navigation- An Upd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9721800" cy="594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just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New 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IVEF Compliant VTS Software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operational in VTS – Gulf of Kutch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VTS- Gulf of Kutch software was upgraded with update features and with IVEF format and became operational with all its features in the first quarter this year.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138000" y="1706400"/>
            <a:ext cx="28584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930240" y="2090880"/>
            <a:ext cx="934740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380880" y="990720"/>
            <a:ext cx="10599840" cy="75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RTCM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 (Radio Technical Commission for Maritime Services) Standards for </a:t>
            </a:r>
            <a:r>
              <a:rPr b="1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NavIC in DGNSS application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,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 officially released on RTCM website on April 28, 2020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Indian Regional Navigation Satellite System (IRNSS) recogn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The International Maritime Organization (IMO) has recognised the Indian Regional Navigation Satellite System (IRNSS) as a component of the World-Wide Radio Navigation System (WWRNS) for operation in the Indian Ocean Re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380880" y="990720"/>
            <a:ext cx="10287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NavIC (IRNSS) is an independent regional navigation satellite system developed by India to provide accurate position information service to assist in the navigation of ships in Indian Ocean wat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During its 102nd session held virtually (4 to 11 November 2020), the  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Maritime Safety Committee (MSC) of IMO recognized the Indian Regional Navigation Satellite System (IRNSS) as a component of  the  World-wide  radio navigation 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533520" y="533520"/>
            <a:ext cx="10134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0070c0"/>
                </a:solidFill>
                <a:latin typeface="Arial"/>
                <a:ea typeface="Arial"/>
              </a:rPr>
              <a:t>Establishment of new Lighthouse at Tajpur and Kuthenku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For easy identification of landmark and to provide seamless coverage of lighthouse along the Indian Coast two new Lighthouses at Tajpur and Kuthenkuli have been inaugurated this yea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9966240" cy="62593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just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Aids to marine Navigation Act 2020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Aids to marine Navigation 2020 superseding Lighthouse Act 1927 has been drafted into Bill and submitted for approval in Parliament.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5"/>
          <p:cNvSpPr txBox="1"/>
          <p:nvPr/>
        </p:nvSpPr>
        <p:spPr>
          <a:xfrm>
            <a:off x="1905120" y="3048120"/>
            <a:ext cx="7010280" cy="274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THANK  YOU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pic>
        <p:nvPicPr>
          <p:cNvPr id="60" name="Picture 6" descr="C LH3"/>
          <p:cNvPicPr/>
          <p:nvPr/>
        </p:nvPicPr>
        <p:blipFill>
          <a:blip r:embed="rId1"/>
          <a:stretch/>
        </p:blipFill>
        <p:spPr>
          <a:xfrm>
            <a:off x="9785520" y="0"/>
            <a:ext cx="1187280" cy="1300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5T04:43:41Z</dcterms:created>
  <dc:creator>abc</dc:creator>
  <dc:description/>
  <dc:language>en-US</dc:language>
  <cp:lastModifiedBy>ACER-PC</cp:lastModifiedBy>
  <cp:lastPrinted>2020-12-08T10:41:46Z</cp:lastPrinted>
  <dcterms:modified xsi:type="dcterms:W3CDTF">2020-12-08T10:46:04Z</dcterms:modified>
  <cp:revision>284</cp:revision>
  <dc:subject/>
  <dc:title>No Slide Title</dc:title>
</cp:coreProperties>
</file>