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entury Gothic"/>
              </a:rPr>
              <a:t>Click to move the slide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406FA38-DB08-4274-8B88-85152FA530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0828F1D-AACD-44D0-8CC1-C3A2E6CA9E13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98040" y="4692240"/>
            <a:ext cx="5365800" cy="4489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610CF56-7FA9-4C1B-9EFD-73402CE4D679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18D436A-BB34-4FBD-B94F-9CE80B9CCDB4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E7CA3CA-F02A-47D3-8982-F9AF84F57ECB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31CA74C-0C02-48A1-9118-0BF18C41AD98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63711D3-A0B8-4866-A828-A87B7A57852E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3B66DAF-E6F8-4450-BFF1-088C0A56A02B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98040" y="4692240"/>
            <a:ext cx="5365800" cy="44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c7b8c0"/>
              </a:solidFill>
              <a:latin typeface="Century Gothic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F81DE95-0470-4CA8-B640-25B7F0F7792E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5112000" cy="4962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7b8c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186819E-EE7D-45E9-B5BD-735E04D949DE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5112000" cy="4962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7b8c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DA12A99-580B-498A-BFB1-0A525490DDAE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21BC6A1-AB07-4200-BC16-89DF29935DA8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891CC00-4452-4450-85AF-263733990C3C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FBBCC7A-5516-401A-875A-188BF28FA283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DAC87E8-817E-4687-8248-C7BC5FAA4F5C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B532B64-CBC7-4DEA-AADD-264FB022602A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E357-F0B9-4A1D-A496-1722F695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7391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3880" y="4057200"/>
            <a:ext cx="7391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0F9C-D7D4-420C-9C08-4FFD95FC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1144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388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1144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8313-E78C-4BE0-AD83-A6081AC62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23360" y="182844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2480" y="182844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3880" y="405720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23360" y="405720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2480" y="405720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200D-F4A6-47D1-9466-5E7F9B27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433E-8599-4B66-90BB-61655DDD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8284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9C6D-FB9C-412A-981D-BC1F888D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ECC9-8F3D-4013-A9D8-EFD54103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1144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50C7-BC86-422F-96AD-E2A9D3D5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0CBA-F24A-47D9-97B8-0920BD9C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762120"/>
            <a:ext cx="7391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A524-A2B8-4625-A9F7-3A523CB7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C09D-60C9-489B-8FFD-4D91FD60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3880" y="18284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9B0F-8D39-461D-A90F-3F6783F9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1144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0CFE-A0F6-454F-A1BD-24D9D8E7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1144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7200"/>
            <a:ext cx="7391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D6C7-9DF2-44A4-8179-AE2E2B5E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7391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7200"/>
            <a:ext cx="7391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D355-A87B-408C-B342-13BA406F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1144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1144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5C1E-477F-42FB-B3B4-576C463F0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3360" y="182844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22480" y="182844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720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3360" y="405720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522480" y="405720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5597-11DE-44C3-88AB-E84F09D5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8235-D2F4-4109-9F94-3201C5E3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1144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CFDF-38C6-4082-BCF6-B60403CE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81BD-F956-458D-98B0-4E4A1A66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3880" y="762120"/>
            <a:ext cx="7391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458D-2B26-49EF-83D3-6672BC48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1144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388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D6E9-459C-4A53-B772-1E480CFB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1144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1144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60EC-5E7B-40D3-A84F-2241CA22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1144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3880" y="4057200"/>
            <a:ext cx="7391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B2A9-599B-4AC3-B4BF-F9E87D4C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backfade_template"/>
          <p:cNvPicPr/>
          <p:nvPr/>
        </p:nvPicPr>
        <p:blipFill>
          <a:blip r:embed="rId2"/>
          <a:srcRect l="0" t="0" r="0" b="1995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523880" y="18284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59056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30B0-C742-4C44-83B4-E03FD15C5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0" y="1676520"/>
            <a:ext cx="914724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4" name="Arc 3"/>
          <p:cNvSpPr/>
          <p:nvPr/>
        </p:nvSpPr>
        <p:spPr>
          <a:xfrm>
            <a:off x="0" y="843120"/>
            <a:ext cx="205740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8284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1868-4E85-4F75-B34A-C6A0912BAD55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4114800" y="2362320"/>
            <a:ext cx="48769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Century Gothic"/>
              </a:rPr>
              <a:t>Ian Tutt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entury Gothic"/>
              </a:rPr>
              <a:t>General Lighthouse Authorities R&amp;RNAV Directorate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entury Gothic"/>
              </a:rPr>
              <a:t>Harwich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entury Gothic"/>
              </a:rPr>
              <a:t>Essex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entury Gothic"/>
              </a:rPr>
              <a:t>UK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1"/>
          <a:stretch/>
        </p:blipFill>
        <p:spPr>
          <a:xfrm>
            <a:off x="1371600" y="2028960"/>
            <a:ext cx="2328840" cy="36860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Perception of Flashing Lights</a:t>
            </a:r>
            <a:endParaRPr b="1" lang="en-US" sz="4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6732720" y="2028960"/>
            <a:ext cx="22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entury Gothic"/>
              </a:rPr>
              <a:t>EEP16/INF/4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38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241200" y="2120760"/>
            <a:ext cx="525780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Apparent Intensity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763272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As the definition of effective intensity only provides for flashing lights at threshold (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i="1" lang="en-GB" sz="2400" spc="-1" strike="noStrike" baseline="-6000">
                <a:solidFill>
                  <a:srgbClr val="000099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), we need another term to explain the perception of flashing lights above threshold at different illuminance levels (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i="1" lang="en-GB" sz="2400" spc="-1" strike="noStrike" baseline="-6000">
                <a:solidFill>
                  <a:srgbClr val="000099"/>
                </a:solidFill>
                <a:latin typeface="Arial"/>
              </a:rPr>
              <a:t>c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It is proposed that the deprecated term “apparent intensity” (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) is revived and used for this purpose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Because the perception of a flash changes with the level of illuminance, it is proposed that a level of illuminance in microlux is stated with the apparent intensity (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Arial"/>
              </a:rPr>
              <a:t>a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, E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transition>
    <p:cut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43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241200" y="2120760"/>
            <a:ext cx="525780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Variable </a:t>
            </a:r>
            <a:r>
              <a:rPr b="1" i="1" lang="en-GB" sz="4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 Approach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920" y="1828800"/>
            <a:ext cx="7632720" cy="19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t has been suggested that apparent intensity can be modelled by varying the value of the Blondel-Rey visual time-constant </a:t>
            </a:r>
            <a:r>
              <a:rPr b="0" i="1" lang="en-GB" sz="20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and linking it to the value of illuminance.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 1933, Hampton suggested using a formula for such a purpose: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9"/>
              <p:cNvSpPr txBox="1"/>
              <p:nvPr/>
            </p:nvSpPr>
            <p:spPr>
              <a:xfrm>
                <a:off x="1908000" y="3884760"/>
                <a:ext cx="361980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Rectangle 11"/>
          <p:cNvSpPr/>
          <p:nvPr/>
        </p:nvSpPr>
        <p:spPr>
          <a:xfrm>
            <a:off x="826920" y="4581360"/>
            <a:ext cx="7632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This formula can be used to calculate a value for 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in the Blondel-Rey equation for different illuminance levels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transition>
    <p:cut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50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241200" y="2120760"/>
            <a:ext cx="525780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Variable </a:t>
            </a:r>
            <a:r>
              <a:rPr b="1" i="1" lang="en-GB" sz="4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 Approach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pic>
        <p:nvPicPr>
          <p:cNvPr id="153" name="Picture 14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883560" cy="43354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241200" y="2120760"/>
            <a:ext cx="525780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What’s the Difference?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71640" y="1773360"/>
          <a:ext cx="7391160" cy="4267080"/>
        </p:xfrm>
        <a:graphic>
          <a:graphicData uri="http://schemas.openxmlformats.org/drawingml/2006/table">
            <a:tbl>
              <a:tblPr/>
              <a:tblGrid>
                <a:gridCol w="1631880"/>
                <a:gridCol w="1905120"/>
                <a:gridCol w="1904760"/>
                <a:gridCol w="1949400"/>
              </a:tblGrid>
              <a:tr h="132084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lash Duration 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s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ffectiv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Intensity </a:t>
                      </a:r>
                      <a:r>
                        <a:rPr b="0" i="1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I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pparent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Intensity </a:t>
                      </a:r>
                      <a:r>
                        <a:rPr b="0" i="1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Ia</a:t>
                      </a: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at 0.2 </a:t>
                      </a:r>
                      <a:r>
                        <a:rPr b="0" lang="el-GR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μ</a:t>
                      </a: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ux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% Increas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85%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66%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51%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1%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6%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2%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9%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ut thruBlk="true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60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241200" y="2120760"/>
            <a:ext cx="525780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Way Forward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Arial"/>
              </a:rPr>
              <a:t>Repeat T-S &amp; G’s experiment (rectangular flashes)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Arial"/>
              </a:rPr>
              <a:t>Test for non-rectangular flashes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Arial"/>
              </a:rPr>
              <a:t>Test with background luminance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Arial"/>
              </a:rPr>
              <a:t>Test for different colours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Arial"/>
              </a:rPr>
              <a:t>Test for different colours of light against different background colours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Arial"/>
              </a:rPr>
              <a:t>Find most appropriate model at each stage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transition>
    <p:cut thruBlk="true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Thank You</a:t>
            </a:r>
            <a:r>
              <a:rPr b="1" lang="en-GB" sz="4400" spc="-1" strike="noStrike">
                <a:solidFill>
                  <a:srgbClr val="000099"/>
                </a:solidFill>
                <a:latin typeface="Century Gothic"/>
              </a:rPr>
              <a:t>	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4267080" y="508464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entury Gothic"/>
              </a:rPr>
              <a:t>ian.tutt@gla-rrnav.org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4267080" y="2133720"/>
            <a:ext cx="48769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Century Gothic"/>
              </a:rPr>
              <a:t>Ian Tutt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entury Gothic"/>
              </a:rPr>
              <a:t>General Lighthouse Authorities R&amp;RNAV Directorate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entury Gothic"/>
              </a:rPr>
              <a:t>Harwich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entury Gothic"/>
              </a:rPr>
              <a:t>Essex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entury Gothic"/>
              </a:rPr>
              <a:t>UK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pic>
        <p:nvPicPr>
          <p:cNvPr id="169" name="Picture 8" descr="Crammag Head"/>
          <p:cNvPicPr/>
          <p:nvPr/>
        </p:nvPicPr>
        <p:blipFill>
          <a:blip r:embed="rId1"/>
          <a:srcRect l="0" t="0" r="0" b="26577"/>
          <a:stretch/>
        </p:blipFill>
        <p:spPr>
          <a:xfrm>
            <a:off x="900000" y="2349360"/>
            <a:ext cx="3027600" cy="2961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00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4248000" cy="28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99"/>
                </a:solidFill>
                <a:latin typeface="Arial"/>
              </a:rPr>
              <a:t>Luminous Range</a:t>
            </a:r>
            <a:endParaRPr b="0" lang="en-US" sz="21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99"/>
                </a:solidFill>
                <a:latin typeface="Arial"/>
              </a:rPr>
              <a:t>Observer Illuminance</a:t>
            </a:r>
            <a:endParaRPr b="0" lang="en-US" sz="21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99"/>
                </a:solidFill>
                <a:latin typeface="Arial"/>
              </a:rPr>
              <a:t>Effective Intensity</a:t>
            </a:r>
            <a:endParaRPr b="0" lang="en-US" sz="21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99"/>
                </a:solidFill>
                <a:latin typeface="Arial"/>
              </a:rPr>
              <a:t>Apparent Intensity</a:t>
            </a:r>
            <a:endParaRPr b="0" lang="en-US" sz="21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99"/>
                </a:solidFill>
                <a:latin typeface="Arial"/>
              </a:rPr>
              <a:t>What’s the difference?</a:t>
            </a:r>
            <a:endParaRPr b="0" lang="en-US" sz="21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99"/>
                </a:solidFill>
                <a:latin typeface="Arial"/>
              </a:rPr>
              <a:t>Way Forward</a:t>
            </a:r>
            <a:endParaRPr b="0" lang="en-US" sz="2100" spc="-1" strike="noStrike">
              <a:solidFill>
                <a:srgbClr val="000066"/>
              </a:solidFill>
              <a:latin typeface="Century Gothic"/>
            </a:endParaRPr>
          </a:p>
        </p:txBody>
      </p:sp>
      <p:pic>
        <p:nvPicPr>
          <p:cNvPr id="103" name="Picture 10" descr=""/>
          <p:cNvPicPr/>
          <p:nvPr/>
        </p:nvPicPr>
        <p:blipFill>
          <a:blip r:embed="rId1"/>
          <a:stretch/>
        </p:blipFill>
        <p:spPr>
          <a:xfrm>
            <a:off x="5364000" y="1916280"/>
            <a:ext cx="2646360" cy="35272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05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Luminous Range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792144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Luminous Range is a calculated figure based on: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Light Intensity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Illuminance at the observer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Atmospheric transmissivity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From Allard: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where:   </a:t>
            </a:r>
            <a:r>
              <a:rPr b="0" i="1" lang="en-GB" sz="20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= illuminance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= transmissivity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i="1" lang="en-GB" sz="20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= intensity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99"/>
                </a:solidFill>
                <a:latin typeface="Arial"/>
              </a:rPr>
              <a:t>d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= distance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d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is range when 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E(d)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is at the threshold of perception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5"/>
              <p:cNvSpPr txBox="1"/>
              <p:nvPr/>
            </p:nvSpPr>
            <p:spPr>
              <a:xfrm>
                <a:off x="1476360" y="4203720"/>
                <a:ext cx="216072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f>
                      <m:num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cut thruBlk="true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10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Threshold Illuminance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0920" y="2031480"/>
            <a:ext cx="82818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Arial"/>
              </a:rPr>
              <a:t>From the International Lighting Vocabulary: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i="1" lang="en-GB" sz="2500" spc="-1" strike="noStrike">
                <a:solidFill>
                  <a:srgbClr val="000066"/>
                </a:solidFill>
                <a:latin typeface="Arial"/>
              </a:rPr>
              <a:t>Threshold of illuminance: smallest illuminance produced at the eye of an observer by a light source seen in point vision, which renders the source perceptible.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000066"/>
                </a:solidFill>
                <a:latin typeface="Arial"/>
              </a:rPr>
              <a:t>Note: For visual signalling, the light source must be rendered recognisable, and hence a higher threshold of illuminance is to be expected.”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transition>
    <p:cut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14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Observer Illuminance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0920" y="2031840"/>
            <a:ext cx="8281800" cy="37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In 1933 an international lighthouse conference in Paris recommended that the minimum illuminance at the observer required to safely recognise an aid to navigation signal light was 0.67 sea-mile candelas (0.2 microlux)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ince then, all luminous range calculations for maritime AtoN use have been based on that illuminance figure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Therefore d is the luminous range when 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E(d)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in the Allard equation is 0.2 microlux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transition>
    <p:cut thruBlk="true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18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Effective Intensity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281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ffective intensity is defined as the luminous intensity of a steady light source that would have the same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uminous rang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as the flashing light in question</a:t>
            </a:r>
            <a:r>
              <a:rPr b="0" lang="en-US" sz="2400" spc="-1" strike="noStrike">
                <a:solidFill>
                  <a:srgbClr val="000066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Luminous range for marine AtoN signal lights is based on an observer illuminance of 0.2 microlux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However, most experiments that investigated effective intensity were based on an observer’s detection of a light at achromatic threshold of illuminance - where the observer could just detect the light (approx 0.05microlux)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transition>
    <p:cut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22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Effective Intensity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1828440"/>
            <a:ext cx="8135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For a rectangular flash, the Blondel-Rey equation for effective intensity is valid: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lvl="2" marL="1131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where: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0099"/>
                </a:solidFill>
                <a:latin typeface="Arial"/>
              </a:rPr>
              <a:t>Ie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= effective intensity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lvl="2" marL="1131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0099"/>
                </a:solidFill>
                <a:latin typeface="Arial"/>
              </a:rPr>
              <a:t>Io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= peak intensity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lvl="2" marL="1131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= flash duration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lvl="2" marL="1131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= the visual time-constant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lvl="2" marL="1131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he value of </a:t>
            </a:r>
            <a:r>
              <a:rPr b="0" i="1" lang="en-GB" sz="20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is typically 0.2 for nighttime use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This equation holds true for flashing lights at the achromatic threshold of perception (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i="1" lang="en-GB" sz="2400" spc="-1" strike="noStrike" baseline="-6000">
                <a:solidFill>
                  <a:srgbClr val="000099"/>
                </a:solidFill>
                <a:latin typeface="Arial"/>
              </a:rPr>
              <a:t>t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1187280" y="2708280"/>
                <a:ext cx="136872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cut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27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241200" y="2120760"/>
            <a:ext cx="525780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Toulmin-Smith and Green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2087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Arial"/>
              </a:rPr>
              <a:t>At the 1933 conference in Paris, one of the papers presented was an experiment by Toulmin-Smith and Green of UK.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Arial"/>
              </a:rPr>
              <a:t>Their experiment investigated the perception of flashing lights at illuminances above threshold (supra-threshold) – the flash profiles were rectangular.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Arial"/>
              </a:rPr>
              <a:t>They used ‘brightness matching’ to plot curves of visual perception at 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i="1" lang="en-GB" sz="2400" spc="-1" strike="noStrike" baseline="-6000">
                <a:solidFill>
                  <a:srgbClr val="000099"/>
                </a:solidFill>
                <a:latin typeface="Arial"/>
              </a:rPr>
              <a:t>t 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(threshold)</a:t>
            </a:r>
            <a:r>
              <a:rPr b="0" lang="en-GB" sz="2400" spc="-1" strike="noStrike" baseline="-6000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and several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illuminance values of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 E</a:t>
            </a:r>
            <a:r>
              <a:rPr b="0" i="1" lang="en-GB" sz="2400" spc="-1" strike="noStrike" baseline="-6000">
                <a:solidFill>
                  <a:srgbClr val="000099"/>
                </a:solidFill>
                <a:latin typeface="Arial"/>
              </a:rPr>
              <a:t>c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(supra-threshold)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transition>
    <p:cut thruBlk="true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32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pic>
        <p:nvPicPr>
          <p:cNvPr id="133" name="Picture 7" descr="T-S&amp;G_fig5 t negative from Air Ministry Paper"/>
          <p:cNvPicPr/>
          <p:nvPr/>
        </p:nvPicPr>
        <p:blipFill>
          <a:blip r:embed="rId1"/>
          <a:stretch/>
        </p:blipFill>
        <p:spPr>
          <a:xfrm>
            <a:off x="684360" y="1700280"/>
            <a:ext cx="4967280" cy="44989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"/>
          <p:cNvSpPr/>
          <p:nvPr/>
        </p:nvSpPr>
        <p:spPr>
          <a:xfrm>
            <a:off x="241200" y="2120760"/>
            <a:ext cx="525780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Toulmin-Smith and Green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722560" y="2852280"/>
            <a:ext cx="342108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Extract from Toulmin-Smith and Green’s paper of 1933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transition>
    <p:cut thruBlk="true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6T15:28:25Z</dcterms:created>
  <dc:creator>Ian Tutt</dc:creator>
  <dc:description/>
  <dc:language>en-US</dc:language>
  <cp:lastModifiedBy>Mike Hadley</cp:lastModifiedBy>
  <dcterms:modified xsi:type="dcterms:W3CDTF">2011-02-14T10:37:16Z</dcterms:modified>
  <cp:revision>193</cp:revision>
  <dc:subject/>
  <dc:title>Lights Strategy Workshop</dc:title>
</cp:coreProperties>
</file>