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412D-FB59-4CD6-A84C-5B22D2C6B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D422-864C-48B6-9DAE-B2EB39671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EF95-01CC-4678-8A2F-F4FF07ADD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601B-A743-4FD0-88C8-C3D8D11E6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F4ACFD-5DFD-4C19-8ADA-FEE44F596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4C9FC2-3A59-45F6-B652-330363864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D6C544-57E5-4146-AE2E-EBE442351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2F43DD-4529-4139-A2E2-C0812827E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C794E9-C680-4FEE-9CAB-A9ACD1BE8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A50801-BD9A-4AE0-82E8-BCF0924D0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C977EA-2310-4061-81F9-449438F31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45A7-134D-4BBF-97EC-155BDDE60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2E9C04-09E5-44BE-84FE-89F0A8613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5BB2A4-7C5F-41B4-97F2-87AB63802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058E28-5107-4AFA-818C-1C421565D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09E7E2-90CF-474E-8F2D-FDF945A2A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70FBCB-8F68-462A-ACB6-8B69C7365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F21D-AA00-4876-A6D1-239736026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9B4B-06AE-42B4-A8FE-90AB237C0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D9CD-C06B-47EA-A8F7-1F603D859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718D-7E57-42FB-8D45-D1CDAD3BE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BECE-E4B7-448F-9F43-9307BB270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1385-B4F9-427C-8F49-C3715942C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C6D1-0156-4934-B258-E45C56B76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ABD7F-E2B6-41C3-890A-BE1B1CBDD9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F9BCF-9357-42D4-942D-84609B8F4D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6643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-124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120"/>
            <a:ext cx="82296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nex 6 - Time budget model of the AIS servi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nd-to-end timing considera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aleness - when is data too old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ansmission queu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ultiple recep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67120"/>
            <a:ext cx="82296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nex 7 - Reliability model of the AIS servi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SS redundancy issues, etc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602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VDL Managemen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400040" y="1905120"/>
            <a:ext cx="63453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-68040"/>
            <a:ext cx="82296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nex 14 - FATDMA planning and operation of an AIS Servi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uidelines for FATDMA configuration setup of AIS shoresta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gorithm to calculate the FATDMA geographical gridscheme on a global bas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-68040"/>
            <a:ext cx="82296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nex 17 - Channel Management by an AIS Servi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uidelines for Channel Management for an AIS Servi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uidelines for the use of DSC capabilities with regard to the A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lculations with regard to DSC channel management comma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uidelines: Channel manage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67120"/>
            <a:ext cx="82296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nex 15 - Assigned mode operation of an AIS Servi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uidelines for Assigned Mode operation by ans AIS Servi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68040"/>
            <a:ext cx="82296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nex 18 - General loading management by an AIS Servi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pacity balance of the AIS VDL by AIS Service(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rvices operating on the VDL simultaneousl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67120"/>
            <a:ext cx="82296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Implementaton, installation and maintenan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457200" y="2413080"/>
            <a:ext cx="8229600" cy="30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-403200"/>
            <a:ext cx="8229600" cy="27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nex 13 - Recommendation regarding efficient operation and maintenance of the AIS Servi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4969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entral maintenance manage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t specific for the AIS service?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-68040"/>
            <a:ext cx="82296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nex 12 - Installation guidelines for AIS shore station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chnical guidance for installation of an AIS shorest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teraction between AIS related services and other (maritime mobile) services operating in the same shorest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ddressing coverage issu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ight be covered by referencing to another pap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omething might come from the guidelin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602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-124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3286080" y="1905120"/>
            <a:ext cx="2571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120"/>
            <a:ext cx="82296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unctional components of the AIS Servi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1728720" y="1905120"/>
            <a:ext cx="56880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67120"/>
            <a:ext cx="82296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nex 3 - Interaction model of the AIS servi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teraction between the components of the AIS Servi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67120"/>
            <a:ext cx="82296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e layerd structure of the AIS Servi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uidelines: The layers of AIS servi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67120"/>
            <a:ext cx="82296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nex 10 - Functional description of the PS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uidelines: Repeat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ata storag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hysical AIS Shore Station Lay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uidelines for secondary syncronisation by an AIS Servi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67120"/>
            <a:ext cx="82296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nex 9 - Functional description of the LS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ecase of the Logical AIS Shore st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uidelines on retransmission using VDM from an AIS Servi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uidelines: retransmiss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ata storag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67120"/>
            <a:ext cx="82296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nex 11 - Functional description of the ASM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e cases of the AIS service manage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ata storag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67120"/>
            <a:ext cx="82296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nex 16 - DGNSS broadcast from an AIS Servi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uidelines for DGNSS correction broadcast from an AIS Servi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terfacing the DGNSS correction service to the AIS Base St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uidelines: DGN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eds revis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riousl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02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Genera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457200" y="2921040"/>
            <a:ext cx="8229600" cy="20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602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ervice Mode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247760" y="1905120"/>
            <a:ext cx="66499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67120"/>
            <a:ext cx="82296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nex 1 - AIS Service Generic Use Cases (Basic AIS services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7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Functional interface between the shorebased applications and the AIS Service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7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Basic AIS Services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7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Other material: e-NAV1-09-07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7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Divide into ?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76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External AIS Services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7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These are the services provided to higher layers, for which interfaces are required 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76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Internal AIS services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7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covers internal management aspects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76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Failurre handeling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7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Stefan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68040"/>
            <a:ext cx="82296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nex 4 - Data and data storage / mining model of the AIS servi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21621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ata mining outside the AIS Servi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67120"/>
            <a:ext cx="82296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nex 5 - Interfacing model of the AIS Servi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IS Data Transfer Networ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uidelines: Data transf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mploying TCP/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P protocol'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eprocessing and interfacing to the AIS Networ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essaging sentences / structur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'IALA sentences'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IEC sentences (Base station sentence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120"/>
            <a:ext cx="82296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nex 8 - Test model for the AIS servi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st strateg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602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esign condiration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57200" y="2516040"/>
            <a:ext cx="8229600" cy="28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9T15:27:09Z</dcterms:created>
  <dc:creator>Jens Kristian Jensen</dc:creator>
  <dc:description/>
  <dc:language>en-US</dc:language>
  <cp:lastModifiedBy>Jens Kristian Jensen</cp:lastModifiedBy>
  <dcterms:modified xsi:type="dcterms:W3CDTF">2007-01-19T15:27:15Z</dcterms:modified>
  <cp:revision>1</cp:revision>
  <dc:subject/>
  <dc:title>A-124</dc:title>
</cp:coreProperties>
</file>