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ED0-F37F-46A7-B1A6-F8732F1A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AE7-EE79-4D10-A3E0-C6FD5DF0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CAB-DD88-4D65-BA7C-8797D019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25F-9C51-49D1-97D9-C76041F4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1246A-D516-4D69-B4E7-96919070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9C8FA-6451-40F5-991D-C4967933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5A21C-B0FF-46E2-89AF-C23A27CE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E4A14-1545-463F-BB98-77FAD1AF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FEBE3-2D9C-4912-A93F-C239528A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51AD6-1741-4D1A-8E32-EBE7E876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AFB14-D568-475C-B90B-D96AB68B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29A-C478-48D5-B71C-9AA94AD0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D65F6-A150-435C-9FA2-2667A306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1743B-F330-4074-BE70-63989CD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00F8D-94AF-4232-BB9C-10BE2242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9527C-8897-4FAD-9984-4E8A8D06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92882-CD17-4E54-A70C-8ABEC36A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E69-9CE8-4430-8408-B8F50C75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7AB-DF25-4BFB-BCFD-C086717C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E2E-F8DB-428A-82A0-1A20BF7D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2B5-E1D9-4D78-AF0A-9B83138F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DBF-6119-455C-BBA2-01A53CF0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882-DE46-4847-AA9B-43FDFFCE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0B8-8EEE-4A88-8BB4-75F615E9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B4B8-1773-456A-807B-785196C7B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4444-CB82-4CE5-B07F-1EFC4B75C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6 - Time budget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-to-end timing consid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eness - when is data too o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ission que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rece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7 - Reliability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SS redundancy issu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DL 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00040" y="1905120"/>
            <a:ext cx="63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4 - FATDMA planning and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FATDMA configuration setup of AIS shore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orithm to calculate the FATDMA geographical gridscheme on a global b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7 - Channel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Channel Management for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the use of DSC capabilities with regard to the 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ions with regard to DSC channel management com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Channel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5 - Assigned mode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Assigned Mode operation by ans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8 - General loading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ty balance of the AIS VDL by AIS Service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operating on the VDL simultaneous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on, installation and mainte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413080"/>
            <a:ext cx="82296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0320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3 - Recommendation regarding efficient operation and maintenanc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maintenan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pecific for the AIS service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2 - Installation guidelines for AIS shore s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guidance for installation of an AIS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AIS related services and other (maritime mobile) services operating in the same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ing coverage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ght be covered by referencing to another pa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hing might come from the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86080" y="190512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al components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28720" y="1905120"/>
            <a:ext cx="568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3 - Interaction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ion between the components of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layerd structur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The layers of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0 - Functional description of the P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Rep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IS Shore Station 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secondary syncronisation by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9 - Functional description of the L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case of the Logical AIS Shor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on retransmission using VDM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lines: re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1 - Functional description of the A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ases of the AIS servi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6 - DGNSS broadcast from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DGNSS correction broadcast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facing the DGNSS correction service to the AIS Bas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DGN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s r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921040"/>
            <a:ext cx="822960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rvice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47760" y="1905120"/>
            <a:ext cx="66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 - AIS Service Generic Use Cases (Basic AIS service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unctional interface between the shorebased applications and the AIS Servic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Basic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Other material: e-NAV1-09-0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ivide into 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x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ese are the services provided to higher layers, for which interfaces are required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n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overs internal management aspect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ailurre handelin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tef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4 - Data and data storage / min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62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mining outside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5 - Interfac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S Data Transfer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idelines: Data trans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loying TCP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P protocol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rocessing and interfacing to the AIS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saging sentences /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'IALA sentences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EC sentences (Base station senten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8 - Test model for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ign condir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516040"/>
            <a:ext cx="82296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5:27:09Z</dcterms:created>
  <dc:creator>Jens Kristian Jensen</dc:creator>
  <dc:description/>
  <dc:language>en-US</dc:language>
  <cp:lastModifiedBy>Jens Kristian Jensen</cp:lastModifiedBy>
  <dcterms:modified xsi:type="dcterms:W3CDTF">2007-01-19T15:27:15Z</dcterms:modified>
  <cp:revision>1</cp:revision>
  <dc:subject/>
  <dc:title>A-124</dc:title>
</cp:coreProperties>
</file>